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7AC9-3A20-43D0-BB36-F285CFCC1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A0A1-BC0A-478B-A7A9-DF73B1E0A6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9A61-D009-4FA4-933E-1F465E45B0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2069-BC41-4FDA-A2CA-9AFAD8EA59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F9E7-F0E9-4514-99A4-7E571B8EA6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B192-8685-4207-A176-988DA8B25D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C359-AA65-4AD8-90D6-CBBC704228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2C75-405B-462D-99E2-543608071D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10CA-DCFE-47D8-BB5B-30DB942519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A44-12D5-4E93-ABF5-3723E72E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5C1-131B-460D-B932-C7DF12B3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43B0-BFF9-47B3-8F9B-73603081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E70-568D-484C-8BF6-8E4B1B0D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143D-2AD8-483C-83D3-6F1AEDDB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9CF5-97DD-4B5D-9F19-6A57E6A6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F1CF-33D5-431D-9223-9E8D6670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B825-19B3-486C-A1D0-EE8C38CE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E726-F021-4AD9-B635-893F4034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BF56-B45E-448E-AAA1-2D01A520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FC1A-79EF-4528-83EE-2F042436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165-D7CA-4679-8502-D8F1BFEE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2072-A237-45D7-92EA-53C396A3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A5B6-A314-4EBC-AFF1-FA24797A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35BB-5C7C-426F-8460-892A139B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1FE3-27D3-4296-8726-7C4F25B9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F1D9-FB34-4705-8A11-CCB39D6B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B0790-FED7-4FF8-87EF-B5A6DA74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A713D-0547-407A-8501-467C10E8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F4313-6AB2-4286-A2EF-1F6FD223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B60D5-5B73-4731-8AB0-5C7F1D78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69C0-003C-4F9E-BBD0-FDFC84F1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017-213A-45F9-A7AA-9D45E30C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8D7ED-A2BE-42E9-8C4F-C92BDB41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E14F7-3EEB-49C8-B57B-09037EC2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12863-35F0-414A-AAA6-5B00510D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E61B4-830B-4F92-876E-6A3C82C2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6728-908F-4829-BC53-31DA5A6B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65A08-9405-4B01-B245-42500696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AB0D8-D17A-423D-B58A-8B78978D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8266-8CC0-4C1A-8A14-FA280BF7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A82B0-EAB0-42DE-980E-54E5DC6F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5A55C-99E4-4DB5-A6EA-5696614A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E9C9-D0AD-4C38-9300-CE341F0E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33889-B151-430E-A044-5BFB19D4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94E45-9F4D-4BB1-A279-145D138D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0217C-1208-414B-A2BC-D9281EE4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B676C-D04D-4203-8A9C-D8EC0278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1C190-E426-448B-B6AA-D196A1D9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8B95E-3E84-43EE-B891-E2EE7D3D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49771-E162-4FA7-AE32-D78C554E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F93A9-4090-4F7C-8B83-C8A15502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FC028-78E5-402A-80EA-4FEFE0FA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B3795-FA24-470B-B9C7-566C58CF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3E5-1581-41FC-930E-82D5F095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82157-16E1-44DD-9F4A-878D0C04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A0014-1128-401F-BF61-7DDF8B7A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91768-0D63-4145-B388-F83FBE91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4C8FD-81DC-4F8D-9556-E67667CD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45B6C-B7FB-4546-93DE-8B567626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546EF-4D28-471C-B43D-D35496A4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3F5ED-35A7-4E48-8779-702E248D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E3EA6-8D9C-4CCC-80E5-8E90F38C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CDB44-3F8A-4F1B-AECF-9B9ED378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D870B-88B4-4447-ADC3-7A06AAC4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E708-BD25-484C-951B-D6CF4BF4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FAF5F-F0D6-4148-9916-8712C278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65DE3-4348-44C2-9DB6-17281E1E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E4D1D-2EBA-47E6-93D1-9AD03CA6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C85A5-DA63-4990-A12A-5D500D91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6E82E-8679-4A86-B5D3-4539E565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FEB02-1177-4712-8E93-961E30D1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3DC48-225C-4F12-870E-EA164945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2CB92-0BCC-487C-B9ED-ECCDE275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17889-5D46-4F22-BB6E-79EC7C5E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5DECE-6396-4F28-BF25-334D7021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F284-C301-4113-B231-42184A3A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0CCF8-35BC-4959-A210-43C1CC09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A318D-2FCF-4E55-BD13-8DDB53E7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00FEF-8CAC-479A-8713-00958B14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0E5D9-887B-4DE8-990F-9E87A9B9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02DE6-F502-4422-A338-B6423740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6699D-7677-49F1-977E-3EB34629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80449-532A-46CD-B51E-3464D4BE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7FBFA-FF49-4BA9-84BB-53802BDB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35B47-E007-4536-B228-53FE4AC8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90AB9-A8A7-4A0C-9FBF-0E87B259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3DB-AE02-48E8-885D-CB63C152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E6CA7-B2A8-4A4D-8992-E2466D9D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9AFFB-2595-4381-8953-847A841A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8A387-E567-49AB-8F49-8CF05C40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98B5E-F49C-4768-B5CB-56635669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0E9C9-9858-4545-A57E-2BB15793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7146D-0918-4949-96EB-9E6FC214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01053-4C38-4D78-A349-568F7A8A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EC354-3BB8-4D45-8F5A-95BC2E47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95A96-73AA-4C7A-ABD1-3BC61616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A1643-017E-4E0E-A4B1-00B3FEEE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C41-1511-407F-A876-E558F62F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63B0F-D21E-4D31-8D32-AC535B3C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F208A-1DB8-4F0E-BA37-73FCCD61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3CCFC-3FC7-49DE-BD64-BCA3EF2B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56504-613D-4187-8D40-360BB42C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D902A-ADDF-4959-BBE8-1FE5BB61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FC3CD-5676-4E14-96BA-9B28D44F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79D34-D308-4D13-B2E0-448F4554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DD34-D64F-4CB0-BC9F-2C3AF113D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EBD5-9E24-4BB7-BC92-9616C88A441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CCEA-33C8-48E7-8160-2D8EC88DC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907D-E1E2-458C-A36F-C4B69A7EA8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D5A7-4D2A-4293-9FE6-864EB29EB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018C-3EE8-4409-A6F8-EDC835B17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5CFD-7796-447C-93AE-4291D8263F1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4DA5-2A97-42EB-9BA6-50530B7A86D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4"/>
          <p:cNvSpPr/>
          <p:nvPr/>
        </p:nvSpPr>
        <p:spPr>
          <a:xfrm>
            <a:off x="3048120" y="51703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icole Cai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ctober 5, 2010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Picture 5" descr="http://imageserver.ebscohost.com/img/imageqv/actual/ret/20100301/10001109.jpg?ephost1=dGJyMMTo50Sepq84zdnyOLCmr0iepq5Srqa4SK6WxWXS"/>
          <p:cNvPicPr/>
          <p:nvPr/>
        </p:nvPicPr>
        <p:blipFill>
          <a:blip r:embed="rId1"/>
          <a:stretch/>
        </p:blipFill>
        <p:spPr>
          <a:xfrm>
            <a:off x="2590920" y="1981080"/>
            <a:ext cx="4190760" cy="3151440"/>
          </a:xfrm>
          <a:prstGeom prst="rect">
            <a:avLst/>
          </a:prstGeom>
          <a:ln w="0">
            <a:noFill/>
          </a:ln>
        </p:spPr>
      </p:pic>
      <p:pic>
        <p:nvPicPr>
          <p:cNvPr id="354" name="Title 7" descr=""/>
          <p:cNvPicPr/>
          <p:nvPr/>
        </p:nvPicPr>
        <p:blipFill>
          <a:blip r:embed="rId2"/>
          <a:stretch/>
        </p:blipFill>
        <p:spPr>
          <a:xfrm>
            <a:off x="378000" y="262080"/>
            <a:ext cx="845496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7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4134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83844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Questioning may be thought of as something simple, but there is so much more than what we think about on the surface. Answering questions, essentially is all about making connection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Picture 7" descr="http://imageserver.ebscohost.com/img/imageqv/actual/ret/20100301/10001111.jpg?ephost1=dGJyMMTo50Sepq84zdnyOLCmr0iepq5Srqa4SK6WxWXS"/>
          <p:cNvPicPr/>
          <p:nvPr/>
        </p:nvPicPr>
        <p:blipFill>
          <a:blip r:embed="rId2"/>
          <a:stretch/>
        </p:blipFill>
        <p:spPr>
          <a:xfrm>
            <a:off x="1292400" y="304920"/>
            <a:ext cx="708948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4" descr=""/>
          <p:cNvPicPr/>
          <p:nvPr/>
        </p:nvPicPr>
        <p:blipFill>
          <a:blip r:embed="rId1"/>
          <a:stretch/>
        </p:blipFill>
        <p:spPr>
          <a:xfrm>
            <a:off x="165240" y="237960"/>
            <a:ext cx="7461000" cy="14018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480060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algn="ctr">
              <a:spcBef>
                <a:spcPts val="700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chema- What is schema and how does it affect students and their question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ctr">
              <a:spcBef>
                <a:spcPts val="700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Velcro Theory”- Making connections and sticking it to what you know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ctr">
              <a:spcBef>
                <a:spcPts val="700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efore, During and After anchor char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Picture 2" descr="http://images.amazon.com/images/P/0064441865.01._SCLZZZZZZZ_.jpg"/>
          <p:cNvPicPr/>
          <p:nvPr/>
        </p:nvPicPr>
        <p:blipFill>
          <a:blip r:embed="rId2"/>
          <a:stretch/>
        </p:blipFill>
        <p:spPr>
          <a:xfrm>
            <a:off x="5954760" y="2133720"/>
            <a:ext cx="2689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165240" y="-648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algn="ctr">
              <a:spcBef>
                <a:spcPts val="649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Book Talks– Designed to catch the readers attention and draw in focu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ctr">
              <a:spcBef>
                <a:spcPts val="649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more they assessed their own questions, the more and more in depth their questions becam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ctr">
              <a:spcBef>
                <a:spcPts val="649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king personal connections with the character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685800" y="4114800"/>
            <a:ext cx="7924680" cy="2284200"/>
          </a:xfrm>
          <a:prstGeom prst="rect">
            <a:avLst/>
          </a:prstGeom>
          <a:noFill/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FIGURE 1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Questions for book talk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1. What type of personal connections did you mal&lt;e to the character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2. Because the book did not give a time period for the story, how did you determine it? Through clothing, language,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setting, description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3. if the characters were real, what would they be doing now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4. People write because they have a story to tell. What do you think the author was saying? (moral lesson)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5. Why did you choose that particular section of the book to read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6. Are there pictures in the book that you find interesting? Why? What are they depicting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7. What type of book is this? (fantasy, fiction, nonfiction)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8. Why should we read this book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imageserver.ebscohost.com/img/imageqv/actual/ret/20060901/454168.jpg?ephost1=dGJyMMTo50Sepq84zdnyOLCmr0iepq5Srqa4SK6WxWXS"/>
          <p:cNvPicPr/>
          <p:nvPr/>
        </p:nvPicPr>
        <p:blipFill>
          <a:blip r:embed="rId1"/>
          <a:stretch/>
        </p:blipFill>
        <p:spPr>
          <a:xfrm>
            <a:off x="3938760" y="2822400"/>
            <a:ext cx="5138640" cy="3969000"/>
          </a:xfrm>
          <a:prstGeom prst="rect">
            <a:avLst/>
          </a:prstGeom>
          <a:ln w="0">
            <a:noFill/>
          </a:ln>
        </p:spPr>
      </p:pic>
      <p:pic>
        <p:nvPicPr>
          <p:cNvPr id="365" name="Title 1" descr=""/>
          <p:cNvPicPr/>
          <p:nvPr/>
        </p:nvPicPr>
        <p:blipFill>
          <a:blip r:embed="rId2"/>
          <a:stretch/>
        </p:blipFill>
        <p:spPr>
          <a:xfrm>
            <a:off x="195120" y="60480"/>
            <a:ext cx="7607520" cy="16351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28240" y="17524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28440">
              <a:spcBef>
                <a:spcPts val="700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pen ended questions are easier for readers to answe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440">
              <a:spcBef>
                <a:spcPts val="700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8 main profiles of comprehension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iteralists, Fuzzy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nkers, Left Fielders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Quiz Contestants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oliticians, Dodgers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uthors and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inimalis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3" descr=""/>
          <p:cNvPicPr/>
          <p:nvPr/>
        </p:nvPicPr>
        <p:blipFill>
          <a:blip r:embed="rId1"/>
          <a:stretch/>
        </p:blipFill>
        <p:spPr>
          <a:xfrm>
            <a:off x="450720" y="-158760"/>
            <a:ext cx="8077320" cy="1481040"/>
          </a:xfrm>
          <a:prstGeom prst="rect">
            <a:avLst/>
          </a:prstGeom>
          <a:ln w="0">
            <a:noFill/>
          </a:ln>
        </p:spPr>
      </p:pic>
      <p:pic>
        <p:nvPicPr>
          <p:cNvPr id="368" name="Subtitle 4" descr=""/>
          <p:cNvPicPr/>
          <p:nvPr/>
        </p:nvPicPr>
        <p:blipFill>
          <a:blip r:embed="rId2"/>
          <a:stretch/>
        </p:blipFill>
        <p:spPr>
          <a:xfrm>
            <a:off x="536400" y="1311120"/>
            <a:ext cx="81201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3" descr=""/>
          <p:cNvPicPr/>
          <p:nvPr/>
        </p:nvPicPr>
        <p:blipFill>
          <a:blip r:embed="rId1"/>
          <a:stretch/>
        </p:blipFill>
        <p:spPr>
          <a:xfrm>
            <a:off x="378000" y="201600"/>
            <a:ext cx="8070840" cy="1481040"/>
          </a:xfrm>
          <a:prstGeom prst="rect">
            <a:avLst/>
          </a:prstGeom>
          <a:ln w="0">
            <a:noFill/>
          </a:ln>
        </p:spPr>
      </p:pic>
      <p:pic>
        <p:nvPicPr>
          <p:cNvPr id="370" name="Subtitle 4" descr=""/>
          <p:cNvPicPr/>
          <p:nvPr/>
        </p:nvPicPr>
        <p:blipFill>
          <a:blip r:embed="rId2"/>
          <a:stretch/>
        </p:blipFill>
        <p:spPr>
          <a:xfrm>
            <a:off x="536400" y="2212920"/>
            <a:ext cx="80712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3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1077840" cy="6164280"/>
          </a:xfrm>
          <a:prstGeom prst="rect">
            <a:avLst/>
          </a:prstGeom>
          <a:ln w="0">
            <a:noFill/>
          </a:ln>
        </p:spPr>
      </p:pic>
      <p:pic>
        <p:nvPicPr>
          <p:cNvPr id="372" name="Text Placeholder 4" descr=""/>
          <p:cNvPicPr/>
          <p:nvPr/>
        </p:nvPicPr>
        <p:blipFill>
          <a:blip r:embed="rId2"/>
          <a:stretch/>
        </p:blipFill>
        <p:spPr>
          <a:xfrm>
            <a:off x="1359000" y="285840"/>
            <a:ext cx="592200" cy="3030480"/>
          </a:xfrm>
          <a:prstGeom prst="rect">
            <a:avLst/>
          </a:prstGeom>
          <a:ln w="0">
            <a:noFill/>
          </a:ln>
        </p:spPr>
      </p:pic>
      <p:pic>
        <p:nvPicPr>
          <p:cNvPr id="373" name="Text Placeholder 6" descr=""/>
          <p:cNvPicPr/>
          <p:nvPr/>
        </p:nvPicPr>
        <p:blipFill>
          <a:blip r:embed="rId3"/>
          <a:stretch/>
        </p:blipFill>
        <p:spPr>
          <a:xfrm>
            <a:off x="1359000" y="3419640"/>
            <a:ext cx="592200" cy="30304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2022480" y="290160"/>
            <a:ext cx="68580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hands-on activities to teach students to make connections and use their schem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more connections the students can make, the more questions they will have and the more they will understan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courage schema and questions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022480" y="3427560"/>
            <a:ext cx="6858000" cy="30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activities are not only hands-on, but self engaging and student interesting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ctivities are students driven, but also teacher directe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ctivities teach students how to use their schema and make connection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ctivities encourage students to make connections and create question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0:34:01Z</dcterms:created>
  <dc:creator>Nicole Cain</dc:creator>
  <dc:description/>
  <dc:language>en-US</dc:language>
  <cp:lastModifiedBy>Nicole Cain</cp:lastModifiedBy>
  <dcterms:modified xsi:type="dcterms:W3CDTF">2010-10-07T01:53:41Z</dcterms:modified>
  <cp:revision>14</cp:revision>
  <dc:subject/>
  <dc:title>Questioning: Lead up to by Comprehension</dc:title>
</cp:coreProperties>
</file>